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9AD1-91BE-443C-9EBA-360A8FC7A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E6F6-F5E8-432F-BEC8-AE2FA321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252A-354A-46F2-BD80-A1942EA6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478E-0770-4F48-85E5-E0537BCC2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8D21-A141-417C-AF8D-D7B98DF2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61F5-E376-41FD-8280-E4FFF8AD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5D78-A918-48C8-AD1A-A80E0772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56D4-6674-47D3-9D6C-8BFC4FA9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5FF6-9FFB-4F39-988A-6E4322F3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44D8-DB70-4C86-B8CE-3751CD7E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B0ED-381E-4A30-A98B-8295A15D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BC77-B2B7-4BC5-8D38-C85A9DF3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92A2-28DC-449F-84B2-573FDB2C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5D46-CDF2-47B5-9E64-C888832B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34A3-7524-4844-A47C-8CD41674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F9EF-A333-4379-A3E4-4FC508E3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3211-5568-4762-A4AB-A320F699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A28D-D520-46CC-8B33-62C90B4B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622C-B618-4210-8D09-DED13290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A5A0-4B78-4A08-A754-D6EA3798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C9CD-DC96-4A68-B33A-EFDAC49D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6247-C23E-488B-89A3-60DC5DF6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3DF8-4C4D-4C34-BDBF-3A39C2B1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9B27-7E69-41A9-A485-73CAA33F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D0A6-0FBF-4CEA-ABFF-61DD034D3E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9526-EB1D-4041-8635-C7CDCA238E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ying Away (198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.O. To understand how black people were represented in the 1986 fil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9280" y="187200"/>
            <a:ext cx="24591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event and the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708280"/>
            <a:ext cx="2952720" cy="2286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292720" y="2708280"/>
            <a:ext cx="302436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tch the fil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take notes whilst watching the fil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about how different groups of people are being represented in particular black pe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hey been put into the mediated stereotyp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you think this is a true reflection of black people at the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heories could we app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lso consider mise-en-sce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al Expressions/body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these things as a whole contribute to the representation of black culture within the fil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presentation Babyl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the different representations you saw within the fil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3068640"/>
            <a:ext cx="4249800" cy="2448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3830760"/>
            <a:ext cx="29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ons in Playing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have we learne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a representations you sa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a theory you could app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think the overall representation of black people in the film w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08:40:40Z</dcterms:created>
  <dc:creator>martinaos</dc:creator>
  <dc:description/>
  <dc:language>en-US</dc:language>
  <cp:lastModifiedBy>martinaos</cp:lastModifiedBy>
  <dcterms:modified xsi:type="dcterms:W3CDTF">2010-09-23T17:22:54Z</dcterms:modified>
  <cp:revision>3</cp:revision>
  <dc:subject/>
  <dc:title>Babylon (1980)</dc:title>
</cp:coreProperties>
</file>